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1B2-4B51-4DBB-AFA0-F5BC7003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B83-06B7-47CA-A553-2EB2B0B0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1DB-6D45-4EC6-B966-E7E17782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345-E286-42FB-81D6-D617D8F6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D9A-6B20-4B67-95E6-1FAF4041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F91-78AB-4291-9C8C-D382F1B5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092-CA6C-4D78-9629-EA82FA21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03F-DE7F-4A61-BFAC-9518B076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786-4629-41B5-A7D7-D7DD9F09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786-D227-4A7C-831E-8285122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46E-E384-47C7-9111-68B2E1B9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6ED-8889-43EE-BAD1-AE5DF76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B6D4-DB46-45DD-B7DF-7498F8987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7086600" cy="632448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6095880"/>
            <a:ext cx="0" cy="1264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467480" y="3429000"/>
            <a:ext cx="16611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914400" y="0"/>
            <a:ext cx="685800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914400" y="0"/>
            <a:ext cx="6781680" cy="678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1219320"/>
            <a:ext cx="9677520" cy="3975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895480" y="0"/>
            <a:ext cx="289584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0" y="1709640"/>
            <a:ext cx="9144000" cy="3619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55960" y="0"/>
            <a:ext cx="277488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4200">
            <a:off x="5257440" y="358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ots ini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733600">
            <a:off x="5867640" y="266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110400">
            <a:off x="4306320" y="1180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mots- v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207000">
            <a:off x="4608720" y="5218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-ha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90400">
            <a:off x="5333400" y="457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1434200">
            <a:off x="685440" y="274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aî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213200">
            <a:off x="380520" y="380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05800">
            <a:off x="2128680" y="50288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4247000">
            <a:off x="2267640" y="123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815800">
            <a:off x="1065960" y="456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yr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3200">
            <a:off x="1143360" y="205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177600">
            <a:off x="2683080" y="5007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710400">
            <a:off x="2820600" y="114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75600">
            <a:off x="3643920" y="5114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550400">
            <a:off x="3430440" y="121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noms pro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0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84280" cy="17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2985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6336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1255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46:40Z</dcterms:created>
  <dc:creator>Marianne NEY</dc:creator>
  <dc:description/>
  <dc:language>en-US</dc:language>
  <cp:lastModifiedBy>Marianne NEY</cp:lastModifiedBy>
  <cp:lastPrinted>2002-01-04T16:53:17Z</cp:lastPrinted>
  <dcterms:modified xsi:type="dcterms:W3CDTF">2002-01-04T17:04:43Z</dcterms:modified>
  <cp:revision>7</cp:revision>
  <dc:subject/>
  <dc:title>Aucun titre de diapositive</dc:title>
</cp:coreProperties>
</file>